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AB8-BF4E-44C9-8811-88E64B5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340-6522-433C-8C5D-D469F71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1A7-CDA1-42FE-9FA2-BE40FD9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DB0-2E97-4561-AA27-46B18F65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A6A-7F7B-449E-9090-DFFD8618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0DD-1FEB-4B3C-AEC8-0C7EF36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6AA-7FAF-466E-B8B4-6C15A731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B03-99D6-4495-A195-49F15256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892-7840-43FC-9C46-A2ADDCE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D56-6F45-462E-80F1-7B1DEC1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BCB-495B-4F71-9CA4-96AEBDB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FA0-B940-4FD4-A7FF-09DF06D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7AED-5F31-45DF-87A5-91B164329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Log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Genesere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Autum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659F-6B02-4BEB-AF05-6C5B779E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Axi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2240" y="974880"/>
            <a:ext cx="763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C95-D6C8-4DAE-B2CE-FEEA263D4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Axioms in Rul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27"/>
          <p:cNvSpPr/>
          <p:nvPr/>
        </p:nvSpPr>
        <p:spPr>
          <a:xfrm>
            <a:off x="822240" y="974880"/>
            <a:ext cx="763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F5BD-6770-4B6D-84E3-093856E6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29"/>
              <p:cNvSpPr txBox="1"/>
              <p:nvPr/>
            </p:nvSpPr>
            <p:spPr>
              <a:xfrm>
                <a:off x="1790640" y="984240"/>
                <a:ext cx="520848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Ùy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8EE9-7D61-4C9D-A827-3E93B5AE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0"/>
              <p:cNvSpPr txBox="1"/>
              <p:nvPr/>
            </p:nvSpPr>
            <p:spPr>
              <a:xfrm>
                <a:off x="768240" y="984240"/>
                <a:ext cx="725328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6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wÙw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vÙv</m:t>
                          </m:r>
                          <m:r>
                            <m:t xml:space="preserve">=</m:t>
                          </m:r>
                          <m:r>
                            <m:t xml:space="preserve">wÙw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5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FBAF-6E93-4DA8-97F4-E4CCF999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11430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8D0-453E-4C0A-B4B6-6039B58F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Flat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1549440" y="1517760"/>
                <a:ext cx="5691240" cy="41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Ù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7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0A84-C1E9-40E0-85CE-C3FA78F6C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ion Axi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1430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tening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C14-4B47-487F-A881-ADEAA2C18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Substitution Axi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984240" y="984240"/>
                <a:ext cx="6821640" cy="51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yÜy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y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Üx</m:t>
                          </m:r>
                          <m:r>
                            <m:t xml:space="preserve">=</m:t>
                          </m:r>
                          <m:r>
                            <m:t xml:space="preserve">yÙ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ubstitution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Ù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6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2,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103-37CE-44B4-BC82-634AE9D0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1430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s for relation constants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axioms for 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one substitution for each function and relation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F47-0F6B-4B06-A83B-96E38ACCC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685800" y="10666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approach -- add axioms of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Theoretic approach -- add new rules of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BDAC-BBFB-45A9-B0E2-3F60B2B00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ferenti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1219320"/>
            <a:ext cx="7896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erms can sometimes refer to the sam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         2*2   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situations, we want to say explicitly that two terms are coreferential; and, in some situations, we want to say explicitly that two terms are not coreferential.  For this, we use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ferenti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0F2-03FE-43D2-BF7D-084413CF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25640" y="2705040"/>
                <a:ext cx="34927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003-4AF1-4D78-A1E9-15A9BB097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206880" y="2355840"/>
                <a:ext cx="273024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¬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occurs in 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C00-AFF6-4836-8270-8B86261CA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2952720" y="1492200"/>
                <a:ext cx="3492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2952720" y="3930480"/>
                <a:ext cx="3492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5A09-2EFC-43DB-8647-7E91D287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-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3200400" y="1828800"/>
                <a:ext cx="31240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Üp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Ü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3733920" y="4114800"/>
                <a:ext cx="1993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4" name="Text Box 6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Equation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09480" y="3505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Substituted in Equation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6E5D-73DF-48FF-B015-7FE1EB508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ent Dele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5105520" y="1828800"/>
                <a:ext cx="295884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,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,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,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,1,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9" name="Text Box 6"/>
          <p:cNvSpPr/>
          <p:nvPr/>
        </p:nvSpPr>
        <p:spPr>
          <a:xfrm>
            <a:off x="685800" y="1143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modulation, parent is usually deleted after sub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EF2-3B3F-4781-8CFE-B5B82C417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394000" y="2050920"/>
                <a:ext cx="400032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5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8B05-3C48-49F7-B825-936AAFF2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235240" y="819000"/>
                <a:ext cx="4280040" cy="57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lity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rithmetic</m:t>
                          </m:r>
                          <m:r>
                            <m:rPr>
                              <m:lit/>
                              <m:nor/>
                            </m:rPr>
                            <m:t xml:space="preserve">axiom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2,7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,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∗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1,9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∗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E83C-5A86-43B0-AEE9-94AD7A14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11430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Bill is Joe's paternal grandfather and suppose that Bill is kind.  Prove that Joe's paternal grandfather is 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057400" y="2438280"/>
                <a:ext cx="458460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gf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oe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kin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ill</m:t>
                          </m:r>
                          <m:r>
                            <m:t xml:space="preserve">)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?</m:t>
                          </m:r>
                        </m:e>
                        <m:e>
                          <m:r>
                            <m:t xml:space="preserve">3,6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78E-44BD-4600-8A28-5D8BD894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With De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" y="1219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ind variables i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2933640" y="2000160"/>
                <a:ext cx="2997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762120" y="3809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 must be a unit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1523880" y="4464000"/>
                <a:ext cx="5945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yÜ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Ù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ther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lde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)</m:t>
                          </m:r>
                          <m:r>
                            <m:t xml:space="preserve">Ü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pat</m:t>
                          </m:r>
                          <m:r>
                            <m:t xml:space="preserve">Ù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quincy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3722-0DEA-4224-B6D2-120D47F6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444760" y="2095560"/>
                <a:ext cx="481320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¬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 occurs in 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her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1C5E-FB1B-42F8-9526-976B62D05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11430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atio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 in an interpre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the terms in the equation refer to the same object in the universe of dis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EF7C-56B7-4B07-BC93-2BF16F88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1143000"/>
            <a:ext cx="78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Demodulation requires a unit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Demodulation binds variables in equation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Demodulation deletes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3CC-9218-4356-9565-F15F71619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276720" y="2558880"/>
                <a:ext cx="28321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y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CF2F-564B-4EAD-A1C9-38EF5445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924200" y="2165400"/>
                <a:ext cx="539892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ath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ather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lder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uincy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t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1,2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</m:d>
                        </m:e>
                        <m:e>
                          <m:r>
                            <m:t xml:space="preserve">3,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CC1-5F04-4D4F-A9EC-17F24046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With Para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2355840" y="1136520"/>
                <a:ext cx="4762440" cy="41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Ú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  <m:e>
                          <m:r>
                            <m:t xml:space="preserve">3,4</m:t>
                          </m:r>
                        </m:e>
                      </m:mr>
                      <m:mr>
                        <m:e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4,5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Ø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e>
                          <m:r>
                            <m:t xml:space="preserve">1,6</m:t>
                          </m:r>
                        </m:e>
                      </m:mr>
                      <m:mr>
                        <m:e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</m:d>
                        </m:e>
                        <m:e>
                          <m:r>
                            <m:t xml:space="preserve">2,7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3A1-DDDB-4F56-B42D-03427ED83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1143000"/>
            <a:ext cx="79246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Resolution and Paramodulation (together with the reflexivity axiom) are refutation complete for all of Relational Logic*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including e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1B2E-1060-4C8E-B12E-7F2E0204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88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85800" y="1104840"/>
            <a:ext cx="792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i(r) =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Satisfied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= f(b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 f(f(a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f(a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f(f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a = c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= f(c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=f(f(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= f(b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=f(f(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c=f(f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014-1A17-492C-8BB3-B740E0C03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que Names Assum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85800" y="1143000"/>
            <a:ext cx="792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In many applications, one makes the assumption that every distinct name refers to a distinct object, i.e. every object has at most one name.  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unique names assumption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(UNA).  The upshot is that a difference in name implies a difference in re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que names assump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n general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one express the unique names assumption in Relational Log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4B3-5851-47A0-88C9-3D3525A3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Closure Assum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143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In many applications, one makes the assumption that all objects are named, i.e. every object has at least one name.  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CY"/>
              </a:rPr>
              <a:t>domain closure assumption</a:t>
            </a:r>
            <a:r>
              <a:rPr b="0" lang="en-US" sz="2800" spc="-1" strike="noStrike">
                <a:solidFill>
                  <a:srgbClr val="000000"/>
                </a:solidFill>
                <a:latin typeface="Times CY"/>
              </a:rPr>
              <a:t> (D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main closure assump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n general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one express the domain closure assumption in Relational Log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3683-CAA3-4841-B659-686CFB54E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br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11430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rbrand Theorem does not hold in the presence of equality.  In general, different 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 to the same object. In  a Herbrand interpretation, every constant refers to itself.  Thus, the following sentence is satisfiable, but there is no Herbrand interpretation that satisfie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=j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Does the Herbrand theorem hold in the presence of the unique names assump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F30A-8D75-4712-BD49-D528AF9CF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omplet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7"/>
          <p:cNvSpPr/>
          <p:nvPr/>
        </p:nvSpPr>
        <p:spPr>
          <a:xfrm>
            <a:off x="990720" y="1066680"/>
            <a:ext cx="731520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Resolution (with factoring) is refutation complete for Relational Logic*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without e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There is a set of premis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conclus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volving equality) such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cally impl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not be proved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Re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28"/>
              <p:cNvSpPr txBox="1"/>
              <p:nvPr/>
            </p:nvSpPr>
            <p:spPr>
              <a:xfrm>
                <a:off x="3200400" y="4572000"/>
                <a:ext cx="2565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emise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c</m:t>
                          </m:r>
                          <m:r>
                            <m:t xml:space="preserve">?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oal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B24-DD72-4A5F-8F32-3E98D3F5F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10666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approach -- add axioms of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Theoretic approach -- add new rules of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8:08Z</dcterms:created>
  <dc:creator>Michael Genesereth</dc:creator>
  <dc:description/>
  <dc:language>en-US</dc:language>
  <cp:lastModifiedBy>Tanel</cp:lastModifiedBy>
  <cp:lastPrinted>2007-11-12T19:28:00Z</cp:lastPrinted>
  <dcterms:modified xsi:type="dcterms:W3CDTF">2013-02-25T13:57:51Z</dcterms:modified>
  <cp:revision>276</cp:revision>
  <dc:subject/>
  <dc:title>Introduction</dc:title>
</cp:coreProperties>
</file>